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242-FD0D-4DC0-B28B-B455D4FA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F98-E89A-4A84-BBAE-1666C023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87A-85FD-4D3E-8495-C15FAD4E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499-138F-40BE-AF16-64CBDBBC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A7C-EC09-4E4A-AA47-172F9841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053-2F67-4A96-BF7D-CE69985F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68D-633E-40BD-B7AF-3AB48EF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A13-A936-4EA6-830F-7503A54A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095-A15F-4BC7-B7C7-84EE7CC8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E8A-C0DA-4DB4-A78F-D4C9B0C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F0C-14DB-495E-B7CC-8940D6DA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115-3CF1-48EF-B121-E7BB6CD7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7117-0D95-4274-B943-A10FB076F10C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LEGION</cp:lastModifiedBy>
  <dcterms:modified xsi:type="dcterms:W3CDTF">2017-01-26T09:14:52Z</dcterms:modified>
  <cp:revision>10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